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2A7-7D1B-42D9-AEE0-5E80DDA2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F16-9878-42BC-98E5-B8ACE009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77E-DFC9-452D-8E98-3C9609F0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7C5A-857A-4805-B21C-606E6A1E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444-89B9-445F-A9F0-5A930AEB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C52-5398-44FE-8877-23C6DDEB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6255-BD0B-409D-9F9D-8A558ED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F79B-9949-432A-ACE0-8B872BF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BA7C-2421-4453-9D39-44A40C8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953D-58D1-4B52-8289-C2B6261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1B59-9384-4B78-9F9D-2D18A54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58A-AAC3-4FAB-8079-66C2DDD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8B4F-CEE9-49B2-8654-3286E8D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0F82-E73B-46D8-8013-E00463B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BB3D-B2C3-4C22-A738-E330616F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FCC-F598-4B1E-B8CE-4F842957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995F-AD54-458C-8D81-2270605F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A57D-4A1B-4DF0-8E7F-1AEB0A9B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DD62-566F-4ADD-BBB4-757DD03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3355-68E0-44AC-9939-95FF321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A22F-D62D-4D1E-A6F8-AA9FEF4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347B-8A52-4286-B2D2-29558C7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FD0-4F33-4442-A433-672DCEC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DA3E-34B2-471A-B3D2-CFA9765D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0840-F1DE-40E9-8F46-C1BC21C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51FB-5557-4AE7-AD0C-9184F6B3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EDA6-5598-4B52-9F3A-B2F21A30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DBCA-2329-4573-99C7-041EAB60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030E0-DE77-4974-82AB-93014427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F9E9-EC3E-4FE0-96E5-8E4D94E9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A69C-2EBA-4E9B-B948-814F1E8A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58949-017D-47F9-BBAA-3616DC7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068F7-9CCE-44C9-839F-2D9C5A6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E11-A345-47E7-A48E-F9750CA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C96FA-EB6B-448E-B75C-1EFD82D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FAC28-CA1F-45B1-922A-B3FB8D04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F933-8130-4F79-956B-56785BE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5E86-87FB-4913-BD10-CAD01348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5600-C8BB-475C-8E09-BC2B169F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879E-7626-4D93-BCC6-C546442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B24C9-483E-4669-865B-3A0C7B3C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AF67-CE04-43E3-93C4-7E1D639C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403B-1624-406D-BFA0-0B4F48F4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995CF-2C00-444B-8616-6D8015C8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B5D6-B586-4B7F-9C18-444DFA13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23B8-8762-47C9-9A71-3D19D070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7554-F3EC-4F30-AA4A-ADA56B82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7B1D-E766-4BA9-91E2-0324A51C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9ADD-4682-4C79-B79D-31F4251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6971D-AE08-4421-AC83-B58DA992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6312-D426-4921-8BDC-84C16F2F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AA45-2713-46C2-B542-5337868F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F2F10-A6D9-4D18-8DC5-29CC844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8187-2D00-466A-B804-F7B63CAB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E2951-5C98-49C8-85E4-A8091A59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0E6-94F9-471D-87F3-83D0B902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98F4-5AE9-48B8-849A-7A454106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8B1D5-2559-4398-A671-77323696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BC7BC-D5F7-4D02-9F6E-515F7A4B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A58C-D6AD-4594-8B42-5772562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881F-F3F3-4695-A80B-B4C63A3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A45AE-CBB8-49E9-9D6A-03E88B4A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2E24-51F2-4982-96FF-F984A29C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94361-A75F-4C05-AB79-C3E0BF62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18F9C-3CBE-4D15-AF82-465C6BA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4FFE-4516-4B69-8427-B5FAA06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BB7-A415-45F7-9849-151D65F5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117B1-619F-4C15-9B21-1578BC5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8E6B4-524E-43B7-973F-16D62320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346D-150E-4342-86FC-5039303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D7DE-653A-4A67-9486-342DE49C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CECD-5F70-4324-AB83-4BEC6B5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E3E8-CAF0-46FC-BA3A-74591D79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9E8D8-F499-43D1-B71E-3D12B7B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4D92E-C93F-4708-9DB8-A63B770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B313A-1BD6-49F2-A5B1-0CBEB4CD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C632B-2654-47DA-9F3F-114B59A5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B91-265D-44C6-A132-32638C74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2C57-7CB2-44DF-8FD1-BD51158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0BA4-8E2D-4F53-B2D3-58268C4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0377-12A6-4F1C-B6D1-321D036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B0BDA-957A-417D-8ED5-85154BD0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8381C-2E29-46FF-A9CF-177AB875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47F9-1726-4137-80DE-858E5E7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968-E037-4FE8-A423-7C8DDEF9770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AE19-677C-47E1-BDCC-B77414EFB82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424D-F513-43C2-8FE8-FE18F8CC1C1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418E-D188-4865-BDCA-075C9AE0E66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AA0-5C4A-4059-B82A-74B5C57797F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7D87-EF1B-4D48-BE8C-E0802709F72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A6DC-F50E-4C54-A657-490F33AB37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hinking about your ballo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did you have to think about as you tried to measure the “lift” of the balloon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How much mass did your balloon lift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were the three most important sources of error in your attempt to determine the balloon’s lift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y did we have to use helium-filled balloons for this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y does a helium-filled balloon lift things but not a balloon you blow up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is the best way to determine how much can be lifted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rbel"/>
              </a:rPr>
              <a:t>What do you think would happen if you measured the “lift” of your balloon today? Would it be the same as it was last week?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564840" indent="-49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and Re-ask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oving from open-ended to closed-ended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might happen if we cover the candle flame with the jar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o you think the flame would go ou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a slightly different question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makes the leaf look gree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73200" indent="-25992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es the leaf do to the other colors of ligh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A couple more poi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low “wait time”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t the premise when necessary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iven what you’ve learned from this activity, compare the flexibility of wood strips to met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Guide to Scientific Question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If you are a curious person you should always have questions about things. Some questions are good scientific questions and some are not good scientific question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 the question is,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"What is a good scientific question?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. A good scientific question is one that can have an answer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"Why is there air?" is not as good a question as "What is the air made of?"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A good scientific question can be tested by some experiment or measurement that you can do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ere did the Universe come from?" is not as good a scientific question as "How fast does a football fly through the air when I throw it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A good scientific question builds on what you already know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at chemicals are needed to make radishes grow?" is not as good a question as "What is the source of genetic mutations in </a:t>
            </a: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drosophila melanogaster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NOAA Guide to Scientific Questions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4. A good scientific question, when answered, leads to other good questio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"What is the color of the sky?" does not lead to as many other questions as "What events or conditions cause the sky to be blue (or orange or brown)?"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ok at the items and ask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velop a list of question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five open-ended ques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five closed-ended questions (that require some use of science processe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clude 5 questions that are NOT good ques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The case of good questions…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osed end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ave one correct answ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ill this kind of mineral scratch glass…(Yes/No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kind of mineral is this…(single answer/name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are the attributes of quartz…(definition)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may have a role in inquiry when they are used to focus the use of science processe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most often a problem when they require knowledge that does not come from direct observations or other science processe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pen end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ow more than one respon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How can we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might happen if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en would you see…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refore…the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ncourage communic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mote greater though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de opportunities for negotiation and collabo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040" y="1784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y question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is the sky blu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id the bridge fall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o leopards have spot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questions invite metaphysical (supernatural) responses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Because God made it that wa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was payback for building it in the first place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lnSpc>
                <a:spcPct val="9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t me tell you a story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questions…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040" y="1784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y question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is the sky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did the bridge fall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y do leopards have spot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et more specific and/or focus on physical causes…and lose the “why”…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makes the sky appear to be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oes the air affect sunlight so the sky looks blu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id the forces acting on the bridge cause the collapse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95160" indent="-26856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is the advantage to leopards of having spots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sking questions using terms to be taught in the lesson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 we mean by “positive” charg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difference between longitude and latitude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How can we identify different kinds of molecules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are the characteristics of a mammal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do you think…” questions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might cause the sky to be blu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is the advantage to leopards of having spots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o you think would happen if the battery were connected to the bulb in a closed circuit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hat did you think about as you tried to predict tonight’s moon phas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f you were going to determine if the rate of swing of a pendulum were affected by mass, how would you do it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o you know what makes it possible for water to run uphill in a pipe?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me problems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	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the “best” is the enemy of the “very good”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would be the best way to find the volume of the block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best way to find out what phase the moon was in last night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at is the most important reason for using monofilament line when building a pendulum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57:12Z</dcterms:created>
  <dc:creator>Information  Technology</dc:creator>
  <dc:description/>
  <dc:language>en-US</dc:language>
  <cp:lastModifiedBy>Information  Technology</cp:lastModifiedBy>
  <dcterms:modified xsi:type="dcterms:W3CDTF">2010-11-08T17:28:16Z</dcterms:modified>
  <cp:revision>12</cp:revision>
  <dc:subject/>
  <dc:title>Open and Closed</dc:title>
</cp:coreProperties>
</file>